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camera.wav" ContentType="audio/x-wav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A05D-67F2-46A8-8E53-8DE155F6C452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finitie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 a si b doua numere naturale. Spunem ca a divide b , si scriem a|b daca exista un numar natural c, astfel incat a*c=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dar a divide b , daca a este un factor al lui b. Daca a divide pe b atunci  a este divizor al lui b, b este un multiplu al lui a si b este divizibil cu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a ,, divizibilitatea pe N ,, este o relatie de ordin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|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a|b si b|a atunci a=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a|b si b|c atunci a|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or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c|a si c|b, atunci c| (ax + by), oricare ar fi perechea x, y numere natura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or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a|b, atunci a|bz pentru orice z numar na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or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a|b, atunci a este cel mult egal cu b sau b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iter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4, daca si numai daca numarul reprezentat de ultimele doua cifre este divizibil cu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8, daca si numai daca numarul reprezentat de ultimele trei cifre este divizibil cu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9 , daca si numai daca suma cifrelor sale este divizibila cu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11, daca si numai daca 11 divide diferenta dintre suma cifrelor de rang par si suma cifrelor de rang imp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7, daca si numai daca diferenta dintre numarul scris fara ultima cifra si dublul ultimei cifre este divizibila cu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13 , daca si numai daca diferenta dintre numarul format cu ultimele trei cifre si numarul format cu toate celelalte cifre este divizibila cu 13 ( valabil si pentru 7 si 11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059A-7E5E-4129-88B6-666E37AF2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937-F7AB-4E21-BC96-E17E8B79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3CC-4E15-40A4-A5C1-83B3457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B3A-5F23-4CDD-9D21-79F40E1E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AEC-FBE0-4B47-B991-820613AE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B119-0416-42AF-BCC7-A81A2298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28AE-D622-4A80-9886-3FB4D518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3022-23F4-4AA4-9296-5ABC6947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3298-DC26-4505-8E50-F28303B8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6592-5275-4210-9FC5-D74F7FB0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9DDB-B3C2-47B4-A6EB-33FCCA3E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1DFE-27FC-4C8C-BE20-8501B34E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2F8-04AA-40FB-B85D-D7750047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B5F0-B55F-4B6D-A51B-19CFB87A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D6A8-5BCE-40B0-A4EB-2AAF64AE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FCB7-DA89-4E4A-A6BA-A1EE03F5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5BDD-0F1B-4A65-BAC4-74EEFAD9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F7FB-9A88-419D-81D3-BD993B37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E56-0388-4785-9922-0BB99A62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77E-A384-45A9-B9A4-AC1C8550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09B-3E0D-4094-8685-59E9E90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DA4-E3E2-4161-90FE-9C1B1370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338-2423-44EA-B727-8F96C9C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116-C542-4329-909F-A036A8B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303-30D1-4318-8D3A-2CCCEAE2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6E58-D89D-4F65-B8C9-A8298251D436}" type="slidenum"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2AE6-D072-4D80-9130-C8042C1E3E35}" type="slidenum"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54936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Divizibilitatea </a:t>
            </a:r>
            <a:r>
              <a:rPr b="0" i="1" lang="ro-RO" sz="4800" spc="-1" strike="noStrike">
                <a:solidFill>
                  <a:srgbClr val="ff0000"/>
                </a:solidFill>
                <a:latin typeface="Times New Roman"/>
              </a:rPr>
              <a:t>î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n gimnaziu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0560" y="5084640"/>
            <a:ext cx="69058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profundare si extind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95640" y="2637000"/>
            <a:ext cx="69483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9000"/>
                  </a:srgbClr>
                </a:solidFill>
                <a:latin typeface="Arial Black"/>
              </a:rPr>
              <a:t>clasa a V 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>
                  <a:alpha val="69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235160" y="0"/>
          <a:ext cx="7872480" cy="68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0"/>
                    <a:ext cx="787248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24000" y="1843200"/>
          <a:ext cx="7920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843200"/>
                    <a:ext cx="7920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224000" y="1125360"/>
          <a:ext cx="7920000" cy="37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125360"/>
                    <a:ext cx="7920000" cy="37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195560" y="692280"/>
          <a:ext cx="7948440" cy="51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692280"/>
                    <a:ext cx="794844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16000" y="1341360"/>
          <a:ext cx="8304120" cy="33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341360"/>
                    <a:ext cx="830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519200" y="604800"/>
          <a:ext cx="7329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604800"/>
                    <a:ext cx="73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Divizibilitatea numerelor intregi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5157720"/>
            <a:ext cx="79246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Gimnazi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835280" y="2421000"/>
            <a:ext cx="756108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Arial Black"/>
              </a:rPr>
              <a:t>clasa a VI 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vizibilitatea numerelor întreg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itie  :  Fie a si b doua numere intregi. Spunem ca a divide pe b, si scriem a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, daca exista un numar intreg c astfel incat a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·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 = b.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adar, intregii care divid numarul b se numesc divizorii lui b, iar numerele ka (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treg , nenul ) se numesc multiplii lui 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orema  : Fie a si b ( b nenul ) doua numere intregi . Exista doua numere intregi c si r,unic determinate, astfel incat a = cb +r si r&lt;|b|, r nenegativ. Numarul c se numeste catul, iar r restul impartirii lui a la b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vizorii unui numar intre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.m.m.d.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.m.m.m.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mere prime intre e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prietati ale relatiei de divizibilitate - teore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492200" y="304920"/>
          <a:ext cx="7224840" cy="57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304920"/>
                    <a:ext cx="72248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te propriet</a:t>
            </a:r>
            <a:r>
              <a:rPr b="0" lang="ro-RO" sz="4400" spc="-1" strike="noStrike">
                <a:solidFill>
                  <a:srgbClr val="ffcc66"/>
                </a:solidFill>
                <a:latin typeface="Times New Roman"/>
              </a:rPr>
              <a:t>ăţ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ale rela</a:t>
            </a:r>
            <a:r>
              <a:rPr b="0" lang="ro-RO" sz="4400" spc="-1" strike="noStrike">
                <a:solidFill>
                  <a:srgbClr val="ffcc66"/>
                </a:solidFill>
                <a:latin typeface="Times New Roman"/>
              </a:rPr>
              <a:t>ţ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ei de divizibilit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ore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bliografi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 Dancila – Divizibilitatea numerelor, Ed. SIGMA,200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e 2000+…- D. Branzei, Ed. Paralela 45,200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e Teme – P Alexandrescu, Ed. Paralela 45, 200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e 2000+…- S. Peligrad, Ed.Paralela 45,200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e Teme – P Alexandrescu,Ed Paralela 45,200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Întocmit 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fes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SAVIN DORIN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OALA PETRU RAREŞ – NR. 25 - GALAŢ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riet</a:t>
            </a:r>
            <a:r>
              <a:rPr b="0" lang="ro-RO" sz="4400" spc="-1" strike="noStrike">
                <a:solidFill>
                  <a:srgbClr val="ffcc66"/>
                </a:solidFill>
                <a:latin typeface="Times New Roman"/>
              </a:rPr>
              <a:t>ăţ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ale rela</a:t>
            </a:r>
            <a:r>
              <a:rPr b="0" lang="ro-RO" sz="4400" spc="-1" strike="noStrike">
                <a:solidFill>
                  <a:srgbClr val="ffcc66"/>
                </a:solidFill>
                <a:latin typeface="Times New Roman"/>
              </a:rPr>
              <a:t>ţ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ei de divizibilit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2276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efinitie : Fie a si b doua numere naturale. Spunem ca a divide pe b, si scriem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 b, daca exista un numar natural c, astfel incat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·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c =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. Asadar a divide pe b,  daca a este factor al lui b. Daca a divide pe b, a este un divizor al lui b, b este un multiplu al lui a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Relatia ,, </a:t>
            </a:r>
            <a:r>
              <a:rPr b="0" i="1" lang="en-US" sz="2100" spc="-1" strike="noStrike">
                <a:solidFill>
                  <a:srgbClr val="eaeaea"/>
                </a:solidFill>
                <a:latin typeface="Times New Roman"/>
              </a:rPr>
              <a:t>divizibilitate pe N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,, este o relatie de ordine :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a ; 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 si b|a atunc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; 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 si b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c atunc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c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aca c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a si c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, atunci c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 ( ax + by ), oricare-ar fi perechea de numere intregi (x,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y)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, atunc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z pentru orice z numar intreg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, atunci a este cel mult egal cu b, sau b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0 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 s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+c atunc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c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te criterii de divizibilit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ile de divizibilitate cu 4,8, 9, 2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ile de divizibilitate cu 11, 7, 1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iterii de divizibilit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1170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4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reprezentat de ultimele dou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cifre este divizibil cu 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8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reprezentat de ultimele trei cifre este divizibil cu 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9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suma cifrelor sale este divizibil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cu 9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25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s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reprezentat de ultimele dou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cifre este divizibil cu 25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11,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s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1 divide diferen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 dintre suma cifrelor de rang par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suma cifrelor de rang impa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se divide cu 7,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s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diferen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 dintre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scris fara ultima cifra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dublul ultimei cifre este divizibil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cu 7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13 ( 7 sau 11 )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diferen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 dintre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format cu ultimele trei cifre si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format cu toate celelalte cifre este divizibil cu 13 ( 7 sau 11 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3 | abcde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3 | (cde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- ab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plica</a:t>
            </a:r>
            <a:r>
              <a:rPr b="0" lang="ro-RO" sz="3600" spc="-1" strike="noStrike">
                <a:solidFill>
                  <a:srgbClr val="ffcc66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i la scrierea unui num</a:t>
            </a:r>
            <a:r>
              <a:rPr b="0" lang="ro-RO" sz="3600" spc="-1" strike="noStrike">
                <a:solidFill>
                  <a:srgbClr val="ffcc66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 natural ca produs de puteri de numere prim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m. m. d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m. m. m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ere prime 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î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tre e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ere perfec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ere amiabile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 ( numere prietene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 divizorilor unui 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natur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 numerelor naturale mai mici de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â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 n si prime cu 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plica</a:t>
            </a:r>
            <a:r>
              <a:rPr b="0" lang="ro-RO" sz="3600" spc="-1" strike="noStrike">
                <a:solidFill>
                  <a:srgbClr val="ffcc66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ificarea fra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l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ucerea fra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lor la cel mai mic numitor comu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zolvarea exer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i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lor de tipul :a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natural, a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ireductibil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compararea fra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lor (b 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natural nenu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6094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0"/>
            <a:ext cx="792468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623880" algn="ctr">
              <a:spcBef>
                <a:spcPts val="134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el mai mare divizor comu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Definitie</a:t>
            </a:r>
            <a:r>
              <a:rPr b="0" i="1" lang="ro-RO" sz="14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el mai mare divizor comun a doua ( sau mai multe) numere nenule este cel mai mare numar care divide toate numerele si este divizibil cu orice numar care divide toate numerele dat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Metode de a afla c.m.m.d.c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Metoda intersectiei ( multimilor divizorilor 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Metoda factorizarii ( scrierii sub forma de produs de puteri de numere prime 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Algoritmul lui Euclid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– Fie a si b , a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, doua numere natural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Etapa 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- impartim a cu b; obtinem a = b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·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+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,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&lt; 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ac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0 atunci b este c.m.m.d.c. al numerelor a si 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Etapa 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– dac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nenul, impartim pe b l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si avem b =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o-RO" sz="14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c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+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, unde c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natural si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&lt;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. Dac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0 atunci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c.m.m.d.c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Etapa 3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– dac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nenul, impartim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l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si avem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o-RO" sz="14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c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+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,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&lt;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rocesul continua pana cand obtinem un rest egal cu 0. Fie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(n+1</a:t>
            </a:r>
            <a:r>
              <a:rPr b="0" lang="ro-RO" sz="1400" spc="-1" strike="noStrike" baseline="-25000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acesta.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C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.m.m.d.c. (a,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) = r(n), unde r(n) este ultimul rest nenul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Observati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aca ultimul rest este egal cu unitatea , atunci numerele date sunt prime intre el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aca doua resturi consecutive se regasesc ca prime intre ele, putem sa nu mai continuam impartirile, caci ultimul rest va fi 1, deci numerele sunt prime intre el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lgoritmul lui Euclid este de preferat cand descompunerea in factori primi a numerelor este dificila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Teore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aca a,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 sunt numere naturale astfel ca a sa fie cel putin egal cu b, c.m.m.d.c. (a,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) =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.m.m.d.c. (a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,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secin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oua numere naturale nu pot avea un divizor comun mai mare decat diferenta lor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474920" y="264960"/>
          <a:ext cx="7387920" cy="697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64960"/>
                    <a:ext cx="738792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3:13:11Z</dcterms:created>
  <dc:creator>1q</dc:creator>
  <dc:description/>
  <dc:language>en-US</dc:language>
  <cp:lastModifiedBy>Cursant17</cp:lastModifiedBy>
  <dcterms:modified xsi:type="dcterms:W3CDTF">2010-08-25T11:12:07Z</dcterms:modified>
  <cp:revision>68</cp:revision>
  <dc:subject/>
  <dc:title>Divizibilitatea in gimnaziu</dc:title>
</cp:coreProperties>
</file>